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F18-3924-4D75-8EDF-63D56BA9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572C-C30A-4F03-AAA4-053879E6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0C7-ED9C-455D-AED4-B5AE0A3F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BF59-700F-4EA9-B903-DD15C4D1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F330-0852-41D4-9891-2C5691A7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26B-0535-4ED3-B5AD-C3464CBA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C211-D274-41AD-8695-15755BCB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3160-A20D-4A22-BA30-6CC0F071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7B57-4C1B-4137-97D8-59886C87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1836-26B4-45C4-AA82-378583CF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7629-13D2-459F-9F09-EAED9335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BD6A-9227-4D5E-AF41-24C38C09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6F00-BEAF-493C-AD7C-40D3CE26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0F40-9F0F-4932-8764-3A7BE7BA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B590-2237-423C-93CE-4464A1B8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165C-DA8B-4766-932C-561F08F6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1379-1116-4E75-B0C2-BB761AB9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CDAA-C8AB-4CFB-80C0-FF3C8A80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089D-8F04-49EB-AFFC-4735B484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6C9E8-0B5E-4595-AF27-A6A2318A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148-C42F-43EA-850D-6569477D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D968D-1464-4D53-A9CB-D1326A50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C34F3-6C81-4461-9F41-43CCBE91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9611A-A5AC-4924-9B4F-504D49E3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5122E-6DF9-40B3-91AF-CEB996F3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AF775-814D-40D4-AE74-8D546626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75B97-B631-48E2-A5F9-974BBB5C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91082-44C7-4FD9-98A8-AEB49981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83F3F-058B-45CB-A170-C1B3E3C3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6DF88-9EC7-4685-9AF7-B434753F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AE626-8EC1-4D25-AA42-CF3C302B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EC4F-E538-4CAA-ACE9-9A703C9C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4DC60-F840-4192-B116-81293777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CDCB2-A1C5-49AF-913E-683921F8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718B5-A938-49A6-8C89-2042382B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84C62-987A-493A-A398-90C6A75A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48EBE-1686-4B65-AF82-23D1F4E7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A42A5-AD8B-4245-9CE2-95D71084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88E63-560B-4C2A-A111-7B3D2668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4C481-40E5-4DE6-8072-90204D32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5E712-37D0-4744-A8A8-93C965CE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4B26A-0087-4B9F-8F9E-8E345924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48C1-75CC-4235-BBBD-C70CAB1C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5B947-ED8A-4430-B092-94C43B7A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C9E6C-C10D-44CD-9860-728144DB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A949C-9DCE-4A79-9E51-7D5A6D29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5B0-7B6F-4302-BC11-00D8E3C5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656-877A-49B7-ABD0-8591710E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2CB3A897-2BCD-4217-B293-9B0B8C399A4A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015685A2-4C2A-40AA-8B74-177B7218BBDF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18FFD7A-A1F4-4799-9ADB-6B8CE45F4D38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833D952E-7D1A-4852-8973-DF0040A603AB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ymień objawy ataku padaczki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98000"/>
          </a:bodyPr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Np.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ślinotok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drgawki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drętwienie ciała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szczękościsk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utrata kontroli nad zwieraczami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niepamięć wsteczna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senność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42:1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